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BE6-FEBF-4723-8BDF-DE6EEE97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BF9-3A9E-4059-BA0C-40390A93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DFF-CEE3-4130-B130-D65B172E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1D0-1E67-4D2E-96D4-9678F411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394F-AC60-4B35-B9CB-B6A78EB3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6647-586D-4595-B6A2-792EC791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4A3D-F813-40D8-880A-B69AD36F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E426-6B6D-4BE3-B7F8-7A1C8B81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DE30-A5E4-4E2C-B4E8-1BFA7F1D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DE50-CFB0-4712-8DE3-3DC01D96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46A0-6C2E-4831-B0AB-D2CF3BB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7AE-787C-48D8-87A2-A542D533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F201-339E-41FA-91CA-586A54A2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8F6E-6676-4AFD-BE63-4982E360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22F8-B7A6-4654-BDBF-3C1E21C2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9932-8F8C-4B9B-99C6-EE433DB8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4045-3D18-4ECD-BD95-C42551CA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C8B-D46F-49AC-B356-5E774D9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B8D-EAE4-4196-AC2A-3F5836AF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BC1-87FE-472E-979E-F5CBD96E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EDF-9A48-40F3-9B84-0F206128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53D-9458-4F5E-8F87-938BEC37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BD5-E0EA-4C84-818D-6C608500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0F5-F4B8-4955-B565-40C6BAA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6BDB-A289-4D75-A81D-F98657EAD4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8CFC-088E-48BC-A4C1-C17BA17C85D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rge:immense::________:__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relationship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narch:Kingdom::President:_____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relationship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 Practice 1-Fill in the blank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was _______ by the time he got home, because he hadn’t eaten all da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 our drive from New York, we ________ the New Jersey Turnpik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wo former employees, whose names have not been_______ are suing the compan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copy is so perfect that it can hardly be ______________ from the origin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we want to be ____________ for the state championship, we need to work hard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cused Freewri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 minu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uld you rather live to be 105 but have a normal, ordinary lif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e famous, but only live to 5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Great Gatsby-Ch.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part of ch. 1 served as an introduction to the novel?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is Nick Carraway made the narrator? What is his relationship to the Buchanan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did Nick go East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cribe the relationship between Daisy and Tom. Do you think they were suited to each other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is the significance of Tom’s reference to the book he is reading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s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revealing announcement does Jordan make to Nick about Tom? What does it show about Tom’s character?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at does Daisy hope her baby will be? What does she mean by thi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does Daisy describe her youth as a “white girlhood?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cribe Gatsb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y does Gatsby reach out to the water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ssignme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 point of view writing assignment. (Handout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ake quiz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Ch. 2 for homewor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5:18:10Z</dcterms:created>
  <dc:creator>Angie</dc:creator>
  <dc:description/>
  <dc:language>en-US</dc:language>
  <cp:lastModifiedBy>Angie</cp:lastModifiedBy>
  <dcterms:modified xsi:type="dcterms:W3CDTF">2009-02-10T05:41:20Z</dcterms:modified>
  <cp:revision>2</cp:revision>
  <dc:subject/>
  <dc:title>DOA</dc:title>
</cp:coreProperties>
</file>